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999-6C65-4AAA-8522-77C2D1DC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7B9-01E3-4859-AC58-D42C5D2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262-B5C2-4EAE-A122-3C7079D9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3E2-9371-4D75-99EA-1EF4ECB0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0EB-1B8E-41AA-BBAA-0C7AD85A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49A3-24CA-469F-B689-77A58AA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2F4C-6AE2-4679-BA8F-15967709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030D-428B-414E-8EBB-71C0C29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144-1115-44DD-8960-0AE7800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B797-721A-4CA7-BD62-907FE19E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992C-E487-47F1-A344-048DE86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F807-947F-44D0-AA7B-57654013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CE9-5748-4FE5-AD05-0BFA8FEB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D66-63AB-4235-9D78-9E0CB20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C0F2-AEB2-4ED4-98EA-74E0C6AB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FD99-780B-4DB4-AADE-A4BCAC11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030F-D0AB-4FFF-900D-36F86385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E4A-3F59-4F23-89BF-715761DF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E1D-8032-4981-B1CF-9071FC06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025-5010-44CF-BE0A-25DA2AC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9B3-91D8-44DE-9400-3C01138A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2FE-730B-4B1F-9575-2419E580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035-261A-434B-94A2-53AF58B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C05-BBA8-411C-8E41-192144A5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AA35-1614-4BCD-A31B-5E7436799B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318-0ED4-4FC9-B657-6D910DE2E4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Финансовая грамотность в школе: цели и планируемые результаты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Балахтинской СШ № 1 им. Героя Советского Союза Ф. Л. Каткова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оненко Александр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недрение кур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ебный курс «Финансовая грамотность» для обучающихся 7-х класс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внеурочной деятельности для обучающихся 8-х класс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личные мероприятия (квесты, переменные марафоны, деловые игры и мастер-класс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мпетен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нимать, что такое личные финанс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онимать общие принципы управления финанс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различать обязательные и дополнительные расход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уметь давать оценку потребностя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уметь пользоваться дебетовой карто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иметь понимание о финансовых сбережениях и принципах накопления денежных средств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актические ум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чет личного и семейного бюджета на краткосрочный период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лиз бюджета, контроль за спонтанными тратами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циональный выбор товаров и услуг, расчет налогов и полной стоимости кредита с учетом процентной ставк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чет семейного бюджета на месяц или год, полную стоимость кредита в зависимости от процентной ставк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бор выгодного валютного курса 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зультаты опро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56 % обучающихся формируют сбережения из карманных денег на различные це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24 % обучающихся не тратят карманные деньги на бесполезные с их точки зрения товары (сладости, фаст-фуд и т.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ндекс полезнос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ы 1 необходимости –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кты необходимые, но в случае кризиса можно отказаться –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адости, фастфуд -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зад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719360"/>
          <a:ext cx="8229600" cy="539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224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 продукт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й фарш (300 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ская капуста (1 коч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еты «Барабарис» (300 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леты «По-киевски» (6 шт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псы картофельные (1 пач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ример зад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719360"/>
          <a:ext cx="8229600" cy="4171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ы купи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т продукт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 полез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й фарш (300 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ская капуста (1 коч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еты «Барабарис» (300 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леты «По-киевски» (6 шту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734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псы картофельные (1 пач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езультаты мониторинг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ходе проведения деловой игры (9-14 декабря) было выявлено следующе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68 %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бучающихся 8-х классов выбирают продукты питания с максимальным ИНДЕКСОМ ПОЛЕЗ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1T02:22:35Z</dcterms:created>
  <dc:creator>бсш1</dc:creator>
  <dc:description/>
  <dc:language>en-US</dc:language>
  <cp:lastModifiedBy>11</cp:lastModifiedBy>
  <dcterms:modified xsi:type="dcterms:W3CDTF">2020-12-16T03:37:1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