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72C-30A1-4D1C-9430-E77E6751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CC2-0E03-4870-AAA4-3C176359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76D-3306-4495-A6EF-F1ECCCD6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B50-AAA9-4838-B165-C717FC1D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C282-A2F7-44F1-9FAD-543A3DF76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6A17-27F0-4226-88FE-CC89A8F3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441D-BFCD-4276-9265-B64F0443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68E1-2339-494B-9093-9DAEBD7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3F4B-D046-48A0-892F-9CD40B9F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AFF3-80C8-4BEA-A4D7-439D5CE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4C73-30FE-4831-9C46-EF878205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383-6382-4BA7-BB88-862D88BD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AF37-D5EE-47EA-BE8E-1DF591D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3B49-5552-43C5-8A74-85F93CF6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5CA8-E3F7-4A8D-902F-CEA62D03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EB7A-95B2-4ACE-AA04-9C0186FB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3675-935B-448B-96FA-58FAC177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32E0E-16A7-4C45-BB5E-E86B874E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2836A-ADEA-4AF6-AE28-C5B96762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3CB2C-E535-4390-8B03-B9462E0D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558FB-1CC0-4240-950A-2B7A7EDE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BE87C-7624-421C-B19F-8C08FF33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39B5-53B9-4AEB-900B-1442528F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EA99D-F9B9-4A37-883C-DC58D860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39C9A-DE1A-4716-80DA-8655CEBF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B53DF-1D86-479D-910D-F940A0AE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1833E-B994-423B-97C1-7C365A43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64CFB-367B-4C71-96DB-B14D9E59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01F027-5B9F-418F-80FF-1A9AD109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9D20B-B8EE-429C-9CC0-487A0004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24E48-242C-459B-860E-85587AEC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5A1C0-56F4-4BBE-8063-9F7A9B58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2B2CD-9287-400D-A04E-8D7A2F1AC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53F1-B50E-4C3B-8C7F-6E3C4D91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FF719-02B7-486F-BEDE-4399C8AA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06F8-972F-4DE5-9A43-1F6FFB8E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3F8FE-BB81-49AD-87D6-32879B8F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9D4DB-DB66-45E7-9145-8CA08E83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964D-D357-4054-A90B-6E64ACD0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B401-BF70-4B47-9930-1B79B0E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FA4A-8F30-46A6-8BBF-A1742A95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33C8-55C5-4594-99BD-6B30FE10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6448-360C-4905-877B-7FFD30C1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7C793-D430-4C2B-8B0E-93C08DAF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F4B-CF05-4011-85CC-47EFA88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1C5050-82E1-4AE6-B8FC-32E4CCC4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1F4C1-6FC2-43FD-96CD-CC764A6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9525F-D05D-433D-B524-0E99BECC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F63D4-1212-4227-B37B-E9A242B7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369F1-36C5-4D14-8069-06C8C35A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09FD9-900D-40FB-B58E-383ABBD8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E67C0-3480-4EF6-8A36-D0A09F12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A6637-86D7-4295-A722-8DB8CFA9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D27C6-6FA1-4E4D-93C6-60FD6E28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7800A-DF7D-4527-BDAB-EB3C1E13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DBD-D828-44C5-B751-10601C7B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22AB0-2ABF-4B9C-BE7F-03C3BF29A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606BA0-508C-49B4-82C6-718226A9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FBAC2-E0FC-4F6A-BD4B-37A11E23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BCB26-8CB0-4D53-94F5-F1716F02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EAAFD-5B07-4251-A7E5-A64989CA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5D854-E479-4BDF-9936-1B7D21AF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A65D4D-0D26-4AD6-B47C-7F7EF87A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FCF31-DC2C-43C5-B117-9A2D5B08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0157FA-CBF1-45E3-A9A2-E1B1FC9E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3F991-9C67-4899-B55F-33BE818B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723-FD34-481D-8F9A-78584F3F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8EE07-AAE1-4857-884C-93DC3F72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4CE4B-AA17-4139-B0E9-97A013DC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1DCE9A-1539-40D9-A6CD-093F6DD8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26BC3-72DA-447A-9DB2-823E244DC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AF6C1-E28D-4474-8508-F901F650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DF85B-75AA-41FA-AC91-59BD4C22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B5936-C226-4575-B482-9FF8C92B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E05244-1310-4F5B-B939-5A0BE231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AF87C-90C1-4B60-8608-6A09E5D2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DD1CC-1069-48AD-A2DC-7B6BC28C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873-055A-4352-8058-7F69B95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B0700-2149-41C4-B74F-50FCC4E6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0350E-4EEE-48E9-94FF-A9471997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EC3F7-4B79-4B93-AB6C-70A496D1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F01FE-BD52-4B02-B9B0-079F414F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84187-3F1A-4143-B81F-5970EFBBA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EBF-229B-400E-9E57-0A75ED5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DACE-807B-4F50-B93A-2EF1AC62149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754C-84DA-442A-9545-2148AD01FDD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2ECC7-A109-49FA-9C76-211CA1CD132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73749-E9FE-4CAF-8F3C-E160AA58403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7A1A-4B25-48B4-A569-48832EC00A6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762E-5D5D-4FDF-A5F5-C8477631759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3795-DCC2-47F8-8A5D-BB3B5058AFC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МОДЕЛЬ ИНКЛЮЗИВНОГО ОБРАЗОВАНИЯ В «МБОУ «БАЛАХТИНСКАЯ СШ№1 ИМ.ГЕРОЯ СОВЕТСКОГО СОЮЗА Ф.Л.КАТКОВА»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Кожуховская Наталья Петровна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заместитель директора по УВР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МБОУ «Балахтинская СШ№1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Century Schoolbook"/>
              </a:rPr>
              <a:t>им. Героя Советского Союза Ф.Л.Каткова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C:\Users\Денис\Desktop\школа.jpg"/>
          <p:cNvPicPr/>
          <p:nvPr/>
        </p:nvPicPr>
        <p:blipFill>
          <a:blip r:embed="rId1"/>
          <a:stretch/>
        </p:blipFill>
        <p:spPr>
          <a:xfrm>
            <a:off x="1979640" y="-31680"/>
            <a:ext cx="66960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75f6d"/>
                </a:solidFill>
                <a:latin typeface="Times New Roman"/>
                <a:ea typeface="Calibri"/>
              </a:rPr>
              <a:t>ЦЕЛЬ:</a:t>
            </a:r>
            <a:r>
              <a:rPr b="0" lang="ru-RU" sz="1600" spc="-1" strike="noStrike">
                <a:solidFill>
                  <a:srgbClr val="575f6d"/>
                </a:solidFill>
                <a:latin typeface="Times New Roman"/>
                <a:ea typeface="Calibri"/>
              </a:rPr>
              <a:t> СОЗДАНИЕ ИНКЛЮЗИВНОЙ ОБРАЗОВАТЕЛЬНОЙ СРЕДЫ В МБОУ «БАЛАХТИНСКАЯ СШ№1 ИМ. ГЕРОЯ СОВЕТСКОГО СОЮЗА Ф.Л.КАТКОВА» С УЧЕТОМ ОБРАЗОВАТЕЛЬНЫХ ПОТРЕБНОСТЕЙ И ИНДИВИДУАЛЬНЫХ ВОЗМОЖНОСТЕЙ ОБУЧАЮЩИХСЯ ДЛЯ ДОСТИЖЕНИЯ УСПЕШНОСТИ В ОБРАЗОВАНИИ И СОЦИАЛИЗАЦИИ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ть вариативность предоставления образовательных услуг детям с ОВЗ, детям «группы риска», детям, попавшим в трудную жизненную ситуацию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казать психолого-педагогическую, методическую, консультативную помощь семьям, имеющим детей с ОВЗ, находящимся в трудной жизненной ситуаци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ть условия для социализации и трудовой занятости обучающихс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ть комплексное психолого-педагогическое сопровождение обучающихся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АТЕГОРИИ ДЕТЕЙ, ВКЛЮЧЁННЫХ В МОДЕЛЬ ИНКЛЮЗИВНОГО ОБРАЗ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Дети-инвалид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Обучающиеся ОВЗ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Дети «группы риска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Длительно отсутствующие де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ПРОВОЖДЕНИЕ ДЕТЕЙ С ОВЗ, ДЕТЕЙ-ИНВАЛИДОВ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Разрабатывается АОП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Утверждается расписание работы специалистов сопровождающего профиля с  обучающими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Организуется взаимодействие педагогов и специалистов по сопровождению обучающегося в образо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.Организуется профориентационная работа с обучающимися через  учебные курсы «В мире профессий», «Озеленение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ПРОВОЖДЕНИЕ ОБУЧАЮЩИХСЯ «ГРУППЫ РИСКА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яется карта  работы с обучающимс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нтроль посещаемости (ежедневный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ещение семей на дому социальным педагогом и классным руководител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898560" y="4149720"/>
          <a:ext cx="7418520" cy="1584360"/>
        </p:xfrm>
        <a:graphic>
          <a:graphicData uri="http://schemas.openxmlformats.org/drawingml/2006/table">
            <a:tbl>
              <a:tblPr/>
              <a:tblGrid>
                <a:gridCol w="382680"/>
                <a:gridCol w="1114200"/>
                <a:gridCol w="1521000"/>
                <a:gridCol w="2916000"/>
                <a:gridCol w="1484640"/>
              </a:tblGrid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чи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ная работ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Rectangle 5"/>
          <p:cNvSpPr/>
          <p:nvPr/>
        </p:nvSpPr>
        <p:spPr>
          <a:xfrm>
            <a:off x="898560" y="3568680"/>
            <a:ext cx="7345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бота с детьми, состоящими на разных учетах (СОП, ПДН, ВШК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5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(дети группы рис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ОПРОВОЖДЕНИЕ ДЛИТЕЛЬНООТСУТСТВУЮЩИХ ОБУЧАЮЩИХС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водится работа по устранении «пробелов» через составление индивидуального образовательного пла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224000" y="4149720"/>
          <a:ext cx="5933880" cy="2427120"/>
        </p:xfrm>
        <a:graphic>
          <a:graphicData uri="http://schemas.openxmlformats.org/drawingml/2006/table">
            <a:tbl>
              <a:tblPr/>
              <a:tblGrid>
                <a:gridCol w="266760"/>
                <a:gridCol w="1428480"/>
                <a:gridCol w="847800"/>
                <a:gridCol w="847800"/>
                <a:gridCol w="847800"/>
                <a:gridCol w="847800"/>
                <a:gridCol w="847440"/>
              </a:tblGrid>
              <a:tr h="80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 рабо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онтрол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о выполне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Rectangle 1"/>
          <p:cNvSpPr/>
          <p:nvPr/>
        </p:nvSpPr>
        <p:spPr>
          <a:xfrm>
            <a:off x="1224000" y="3510000"/>
            <a:ext cx="586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ец индивидуального образовательного пл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егося ____ класса 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 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-1011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549000"/>
            <a:ext cx="746748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акая специально организованная работа позволяет достичь следующих результат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Количество поступивших с УО и продолжающих обучение в СПО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018 г. – из 7 обучающихся поступили 6 ( 1 ученица – г.Красноярск-специальность «Швея», 5 обучающихся в п.Балахта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019г. – из 5 обучающихся поступили 5 ( 1 ученица – г.Красноярск-специальность «Пекарь-кондитер», 4 обучающихся в п.Балахта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020г. – из 7 обучающихся поступили 6 ( 2 ученицы -  г.Красноярск-специальность «Пекарь-кондитер», «Швея»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Прямоугольник 3"/>
          <p:cNvSpPr/>
          <p:nvPr/>
        </p:nvSpPr>
        <p:spPr>
          <a:xfrm>
            <a:off x="2286000" y="2746440"/>
            <a:ext cx="45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356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692280"/>
            <a:ext cx="7467480" cy="57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8T07:12:03Z</dcterms:created>
  <dc:creator>метод</dc:creator>
  <dc:description/>
  <dc:language>en-US</dc:language>
  <cp:lastModifiedBy>метод</cp:lastModifiedBy>
  <dcterms:modified xsi:type="dcterms:W3CDTF">2021-01-29T06:14:53Z</dcterms:modified>
  <cp:revision>32</cp:revision>
  <dc:subject/>
  <dc:title>Слайд 1</dc:title>
</cp:coreProperties>
</file>