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9FC-3F96-4323-8FF8-ADFBE147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D1E-9D8D-4DF8-A7DC-FC8660B3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7627-3B4F-4351-8424-D0D83443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A7B-8075-4453-AB68-47C297AF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15F2-CC38-4A31-A7A5-3F946AD8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ECC4-82F0-473D-8E78-D1FA1DBF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ABCB-FA29-4295-A486-D493E7E2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354E-8016-4FEA-A50E-03F80FFC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4DD8-99C0-4CE0-8EC4-787588BB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F9CC-1062-4B70-8538-F64B01F3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6E52-A62D-45A5-BAAA-D929A5C9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26D8-A447-45A3-95D8-AE57D9F2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48AC-F26B-4F49-B4E2-AAE6D49B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65C5-E6BB-4297-A1D7-C14A06B3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6021-7BF8-4CDD-981A-F5CBA071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E01E-764B-4292-AA5C-C10FF6A5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894B-494F-42F9-9B03-3C6E51A9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D8213-83FA-4F87-8AD2-35FB30CA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B4B90-0092-44C3-99E4-C7EC15B8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112E9-4B5D-4285-8DD9-F4918D50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29543-46E8-47AA-A32E-5417AA46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E5EE4-8078-40F9-9A47-31E6267B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8602-BD3F-4C6C-BAA3-222DE678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B32E3-EAA7-49D6-A280-720C66D1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85418F-E5AF-4546-B7C3-1563D5B0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C5C31-D6CD-4465-AB59-FEFC32AE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B01CE-E0BF-48B7-B3B6-331B7BD8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4D262-E4C8-4B39-9E07-242B0EFD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FA4B2-5537-43DA-9A4D-29999F84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84BD5-AB1E-455A-A6AE-01DD230D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F9E0E-7789-47F1-96CA-F2EDDD75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3073F-E591-4D84-A30C-9C1AA0AD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757AA-3E6D-4453-ADD6-53487C8C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5FA-9739-46C2-AC9C-CD415434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29352-3B08-423E-BB64-8C10C2B4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4FA91-5698-42C0-B70A-4D371EC3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4FD26-320D-4B95-85BF-8224F2A5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7474D-46D9-4D2A-B48F-4BA72C8E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C03A6-AC3E-4C6B-A651-6817EF77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50FA9-9219-4C52-B493-1352CE36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EFD77-F74B-439F-9E45-F1F212FA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0CE74-DC13-434C-8745-9E2DF941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3C9AE-7E51-48C5-98CD-97ECAD88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FB6B08-A807-4542-8FB7-7D788E59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18B9-2903-4BB6-AA25-A72D6F17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9F8866-AC75-43C4-9AF7-F0FDA069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931C4-81E0-4C38-8689-5368512E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FF12E8-7524-4448-809A-619699E0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556231-C48C-4FD4-AC94-7B00C3F6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5CE9AC-5414-49A9-91E4-59C75980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6F924-9A31-4358-8920-250E4F93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4583D2-BD7F-4336-B476-7C9E9D2E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8E4D7C-B2E5-4E27-8D26-A5DA6359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744148-7AFB-43F7-8163-2EF4BAEB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CC5BB-DF7A-4960-B8E3-0F739C1A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9DD3-E56C-47B8-9227-9726DD6B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C861D-6B7E-4ACD-AEE9-528B5818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0D5366-48CC-4985-953F-EA2BB7B9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0F7F20-DAD4-44A9-BBCD-2CF7474D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D8AAFA-C9C0-493E-8F56-5EFB7208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4B0C1D-0247-44FA-A87F-585A4DA5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80D9BE-3965-41B6-B5B7-00C227BB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B15B68-2ABF-498C-A05C-727F2B21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9FB679-E334-45EF-B288-8EE5FCA4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F6230E-BECA-4F1C-8BB5-ADAA824A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5E4D2D-164B-4C0B-BF8F-8E9B9F3F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923-D5C4-41BA-A53D-90F834A4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1054E9-AEC7-44E1-9C5E-45A84CC3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09E0A9-1B9D-4241-B652-82F175C0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4C9EFF-79FA-4040-8B30-B77C2ADC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A19AE4-4285-4BB6-8F8C-64B3D802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0E3F64-BC66-4D65-B5C3-71A39B1B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52D457-956E-4821-B237-55F9931B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693882-45E2-4479-9404-A652111E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4B4867-E914-4E3B-825F-B5E3DCF6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F2E3AF-5F09-4D51-B04F-2509E22D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5946FE-1686-4275-8B35-036F814A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E985-0C0C-45A8-B37C-D70BC5FE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18B8E2-A79E-4B98-99C5-058F6342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A2BAFE-1DFC-4146-822D-8D8259D0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FC99D0-E5EB-4B4B-9CF2-F0438027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C06DC6-2F5D-4A88-8BE2-AA954D88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455E2D-C081-4159-9B72-C4EC25C7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D8C3-C465-4F0C-9571-57698740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7C7A-7021-49B6-B1AB-78BEB0F67EA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A1EB-646E-44C2-8FEE-D216AEC5EAC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0D4C-D8F3-45F5-B5A1-301BCD99551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7D1F-0B0D-4730-8F5A-FE755214024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7EA5-ED44-40F2-8557-01F39B36EC4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075E-4AB1-46CC-ACE3-BAEE7E66433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F222-1BEE-4A76-BE0B-CD0486F46A7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ОРГАНИЗАЦИЯ РАБОТЫ ПО ФОРМИРОВАНИЮ ЧИТАТЕЛЬСКОЙ ГРАМОТНОСТИ В НАЧАЛЬНОЙ ШКОЛ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Кожуховская Наталья Петровна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заместитель директора по УВР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МБОУ «Балахтинская СШ№1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им. Героя Советского Союза Ф.Л.Каткова»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C:\Users\Денис\Desktop\школа.jpg"/>
          <p:cNvPicPr/>
          <p:nvPr/>
        </p:nvPicPr>
        <p:blipFill>
          <a:blip r:embed="rId1"/>
          <a:stretch/>
        </p:blipFill>
        <p:spPr>
          <a:xfrm>
            <a:off x="1979640" y="-31680"/>
            <a:ext cx="66960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4356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692280"/>
            <a:ext cx="7467480" cy="57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6840" y="1268280"/>
            <a:ext cx="814716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1.Подготовительный этап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 результатов итоговой диагностики 1,2,3 класс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 результатов КДР4 ЧГ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ение отчета ЦОКО о проведении КДР4ЧГ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. Основной этап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седание М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бота творческих групп по формированию банка заданий по формированию ЧГ (работа с западающими умениями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груж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 Заключительный этап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дение внешних мониторинговых процедур (ИД123 и КДР4 ЧГ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ЭТАПЫ ОРГАНИЗАЦИИ РАБОТЫ ПО ФОРМИРОВАНИЮ ЧГ В НАЧАЛЬНОЙ ШКОЛЕ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7740720" y="5127480"/>
            <a:ext cx="140328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ОДГОТОВИТЕЛЬНЫЙ ЭТАП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125000"/>
            <a:ext cx="800244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Анализ результатов ИД123, выявление западающих умений, а также распределение по уровням сформированности умений по читательской грамот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4358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ОДГОТОВИТЕЛЬНЫЙ ЭТАП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Прямоугольник 3"/>
          <p:cNvSpPr/>
          <p:nvPr/>
        </p:nvSpPr>
        <p:spPr>
          <a:xfrm>
            <a:off x="539640" y="170028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Анализ результатов КДР4 ЧГ и изучение отчета ЦОКО (особое внимание обращаем на раздел «Над чем нужно работать в следующем учебном году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ы анализ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западающие ум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уровень сформированности умений читательской грамот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ровень достижения ЧГ (базовый, недостаточный и.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СНОВНОЙ ЭТАП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981000"/>
            <a:ext cx="746748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Проведение МО учителей начальной школы в августе совместно с учителями 5-х класс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Объединение педагогов в творческие группы по параллеля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пр., 4-е классы : умение  объяснять значение слова с помощью синонимов, контекста, снос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Педагоги в творческих группах  разрабатывают алгоритмы работы над задания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. На основе этих заданий организуется работа на учебных курсах в 4-х классах и проводятся погружения. Также педагоги используют на всех уроках при работе с текст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ПОГРУЖЕН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836280"/>
            <a:ext cx="7467480" cy="56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участия в погружениях детей разбиваем на группы по уровню сформированности умений: пониженный, базовый, повышенны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ждый педагог работает по своей тем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ждая группа детей изучает все темы во время погруж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-10116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549000"/>
            <a:ext cx="746748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акая специально организованная работа позволила достичь следующих результатов в 2019 учебном году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83,93% обучающихся справились с первой группой читательских умений: общее понимание и ориентация в текст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7,76% обучающихся выполнили задания, направленные на глубокое и детальное понимание содержания  формы и текс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61,04% обучающихся выполнила задания, направленные на использование информации из текста для различных целе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2286000" y="2746440"/>
            <a:ext cx="45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8T07:12:03Z</dcterms:created>
  <dc:creator>метод</dc:creator>
  <dc:description/>
  <dc:language>en-US</dc:language>
  <cp:lastModifiedBy>метод</cp:lastModifiedBy>
  <dcterms:modified xsi:type="dcterms:W3CDTF">2021-04-23T06:24:48Z</dcterms:modified>
  <cp:revision>44</cp:revision>
  <dc:subject/>
  <dc:title>Слайд 1</dc:title>
</cp:coreProperties>
</file>